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3145-23D9-4FF3-B254-ADE3A67C8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3F2B-B215-4EA6-9A6E-8095A98F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DCB7-2CA2-44E3-9FFC-20E75E1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DAB1-ECB7-4A59-9ADF-BFD961EB0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84EC-5732-49D2-90AD-B92EB4B1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63A8-B231-4D57-9A7B-DF6893C7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B814-003E-4068-82E5-A1948894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0665-0D71-4B41-9B76-6055417B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CFFF-27DD-4BA2-A9FD-0DF51B7C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180A-09AC-4115-BF71-7414FF8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3A8F-A9EF-480B-9998-75413F3E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178B-2EC0-48FD-8D20-E90A0C6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F6F3-277F-472A-975D-E99D2BCCA861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64CC-C49D-4E7B-8758-35AB7FC3F3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pre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5485-977D-4EE8-9D41-0331AFB4D4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3593-EF0A-483A-8557-C647A0A67A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last milestone&gt;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xx.xx.xx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25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76DA-E154-4621-9D5D-D523CEDDB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Improvements on red ratings from last Quality Gate PH par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&lt;“TTM”, “Software” etc.&gt;: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scription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Cost vs. Target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BOM target missed by 2 Eur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BOM reduced by 1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Further DTC measures to be evalua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FEC4-0FE0-42CA-B6FE-E3173CEB72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-&gt; Impact on TTM, cost, quality or other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FF49-E7D9-4D5B-ACAB-A1B07BFF7A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1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7517-D330-43D5-939F-FB0FC940F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2 (recommended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8448-4AB2-47CC-BDA8-B657BE49AC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1643-1775-44B6-9511-A73E1BDFB7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D431-DA4C-4228-B9CF-40247C586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8356680" cy="51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 – Not updated-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8DB2-3AD2-4C30-B3A0-6D0B902CB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44:54Z</dcterms:modified>
  <cp:revision>101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64028184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